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C87-8A2B-464B-966E-6F070AAF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68F-F9BF-4DD1-969D-EB52DB0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F92-2510-44AA-AF95-60FFE9A1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91C-6634-47D7-B7EA-28118E4F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67C3-381F-4E27-8767-54A2ED08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7CAF-6A7B-4BA1-987E-72F3A43C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63E-D376-477C-A0BD-38E1B5C1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1BE7-A0C4-45A3-8D9E-3D03CAA6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61BC-2FA7-4E51-9AB6-E5C4AF04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9C76-84F7-4B83-8959-0B976544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5044-0888-45F5-A03C-E5B31B8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649-611A-4F55-B2C1-6C8D2BBC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CEDB-0D65-4DF1-ABBA-00E0F46C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174C-BA25-4562-883E-2C458C3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F717-8043-4CBA-A079-517C0230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E3C0-7B1B-4E6C-B354-37B35166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8586-BE69-4867-AB89-6344E2C7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CED-2530-45EF-9171-3A68F2C1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3F9-C1FA-429F-B250-9ABB962C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8F9-A366-4C0D-93A8-A6D5C118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6A1-CA19-42EE-97D0-4E2F660C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611-A532-4486-AC42-C6BADEA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DF6-27C1-409F-8B94-D7C97F03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3B0-AE27-41B7-917D-BB90BDED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557C-CD7A-47A8-A180-7F8F00B21361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B04B-82AC-49B1-A1D5-6ADB89905C24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The Maldives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By Michael Dorsey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1095480" y="14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Something about the Maldives 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They are among the lowest sports on Earth and consequently are in danger of becoming the first drowning victims of global warming.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4400" y="3994200"/>
            <a:ext cx="3043080" cy="2373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482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22:11Z</dcterms:created>
  <dc:creator>PA Department of Education</dc:creator>
  <dc:description/>
  <dc:language>en-US</dc:language>
  <cp:lastModifiedBy>PA Department of Education</cp:lastModifiedBy>
  <dcterms:modified xsi:type="dcterms:W3CDTF">2009-05-21T17:35:00Z</dcterms:modified>
  <cp:revision>1</cp:revision>
  <dc:subject/>
  <dc:title>The Maldives</dc:title>
</cp:coreProperties>
</file>